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9DD8-C955-4CCA-81A7-D1A9EA931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18A8-3BA0-4212-BACE-A6454DA3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B7E5-4AE7-46EB-BD0A-7A0F00634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F379-7DB6-48B7-8D21-48356BB62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B08D-1852-479B-9C2A-B5610B3F2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BB92-A30A-44FB-950E-D40645E1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2D6D-7370-4F76-891B-AD282D04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CBD9-27A5-4E64-8FB6-B4062437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11ED-6AFE-417B-AB42-C4120BDB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3EFD-4770-499F-B2D4-EB23BAE7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3DAA-8724-4033-B277-0213C801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493B-0342-4BCD-BA96-BADE5889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319C-A0D4-4926-B0D5-6709DCFE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4DB6-F4B3-4547-8A50-7B62C817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2706-A74B-45B9-B954-FFC8B2BD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7477-8A10-4616-8AA3-9B10B8A90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8C06-CE9B-4E29-891E-E155B461E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DBFE4-EDF8-47FA-AA0A-A0ECAA9D4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06755-6D51-49EE-AB59-C183D512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F8B94-6550-4C08-B047-BE1A37B9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AD425-872D-40F0-9D1E-030E71D7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FCCF3-4560-43E0-93F0-FF788E1E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B5BF-EA88-4766-849A-63DB2759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DCEA8-4ECC-4797-9C5E-7EE6A5A0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939FE-1E8B-4184-9F88-4259CB37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F35EA-9CD0-4B52-9AAD-D858A511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3FB1C-15BC-4BCF-8F85-66179179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A7DE5-AA2B-4A3C-9334-05D3BD21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459E0-0156-45EA-98AB-33690C865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95573-F8CD-42E0-9318-E28B40829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24CAE-A35D-42AD-AA6A-5A2FDEB10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41E3F-1F82-41AE-AC58-B3E9419C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D1434-C9B4-40B2-8553-3F201101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426D-C41C-4BB2-A4A6-433CDDCD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1B4FF-3EA1-4FBB-B34F-687AD33D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BDD0E-46AC-46FB-B194-4979A905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6F3F0-FDA4-428B-9C58-B9D9F854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AFF94-4B52-4A67-8F66-F9CE6BBD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155FB-2FC5-473B-A3D4-497AF7A0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30C24-44A8-4F8E-A5D8-6FE6A9A8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96305-03A8-4465-8C05-60578FCA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76FFC-52F2-48BC-9A26-72F4ECD10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DE4D0-2951-4188-9E73-0E35DF383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7D98-945B-4EAF-98D8-E41D94C0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19BA-1713-48B9-ADB0-EB633B38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A087-8D26-4044-BCDE-B929729F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CD75-EBA5-454F-8E9A-720EFD87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DA5E-D3CC-4120-A036-82DE3EE2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EBE8-35FE-4D28-9352-677F990F484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2E85-8038-47F5-AF23-9507DFBC142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F633-50C8-4F7D-8CCF-ED8608C15CF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B7FF-A36D-445D-9830-602162FA9A3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549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Qu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djective Claus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oups of words that act as adjectives to describe or identify a nou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se clauses follow the noun and begin with relative pronou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oun 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lative pronou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. The ESL class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that Vicki teache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s on the Newark campu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199" name="Straight Arrow Connector 9"/>
          <p:cNvCxnSpPr/>
          <p:nvPr/>
        </p:nvCxnSpPr>
        <p:spPr>
          <a:xfrm flipH="1">
            <a:off x="3655800" y="4039920"/>
            <a:ext cx="3600" cy="6102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0" name="Straight Arrow Connector 11"/>
          <p:cNvCxnSpPr/>
          <p:nvPr/>
        </p:nvCxnSpPr>
        <p:spPr>
          <a:xfrm flipH="1">
            <a:off x="2664720" y="4039920"/>
            <a:ext cx="3960" cy="6102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Your Turn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are identifying adjective clause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do adjective clauses follow in the sentenc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do adjective clauses begin with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djective Claus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dentifying adjective clauses are really a combination of two shorter sentences about the same nou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. The ESL class is on the Newark campus. +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icki teaches the ESL clas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ESL class that Vicki teaches is on the Newark campu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lative Pronou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dentifying adjective clauses begin with relative pronou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o = person or people (sometimes animal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ich = thing or thing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at = thing or thing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= time or tim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re or in which = a place or pla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ose or in whose = posses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Your Turn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are adjective clauses a combination of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ame several relative pronoun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ich relative pronouns do we use for peopl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ich relative pronouns do we use for thing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djective Claus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relative pronoun replaces the noun it describes; the noun is NOT repeat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saw the horse. +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cientist was testing the horse. =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saw the horse that the scientist was test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 saw the horse that the scientist was testing the hors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Your Turn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bine each pair of sentences into one sentence using an identifying adjective claus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ever Hans was trained by a retired school teach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chool teacher had taught science for many yea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afternoon was cold and rain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at afternoon Clever Hans was ready to perfor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Your Turn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. 82 # 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. 8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21:15:42Z</dcterms:created>
  <dc:creator> </dc:creator>
  <dc:description/>
  <dc:language>en-US</dc:language>
  <cp:lastModifiedBy> </cp:lastModifiedBy>
  <dcterms:modified xsi:type="dcterms:W3CDTF">2011-04-10T21:45:07Z</dcterms:modified>
  <cp:revision>2</cp:revision>
  <dc:subject/>
  <dc:title>Identifying Adjective Clauses</dc:title>
</cp:coreProperties>
</file>